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41C3-CB0C-4C68-A8A5-ED4E3EB6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ECDA-518D-4597-B3CA-7F0CD792881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E81-FA6D-48C7-A794-873A55327B3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3DBB-9E09-4E09-8341-D76E84FE8E2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CAD9-0E5B-4C83-A236-3E8DE802826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D79-B520-4DB9-A05F-7D8FF4434DB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AED2-F792-49D1-882C-041E23E7713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B3D0-FCEB-475E-8970-DF210A67F7F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1E0C-A3D9-4570-8B06-5457436615D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EEA-03A5-4F24-9E6C-94B4CA291FE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A2F1-BBC5-4CA4-87EA-8DA40B6C293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9EC1-7671-42BC-B916-DE4E90E1543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8473-98D8-4518-9F02-5E6A25468F6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E30-3756-496C-A8B6-FAED0762BD3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6C5-6C9C-4022-BA1F-3F8B3134C7E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6FBA-70C0-4F01-A794-86A3F31230E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79B-DB14-457A-83A6-75535166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1EF-C51B-4D74-8930-EF2CE38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3AF-AD23-48F9-BB38-CC23B3EC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F13-ADBE-44F6-8F76-2D3D231A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9FA3-3227-4922-9ED2-AE79213A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E4C4-2D2F-4862-B3F3-61253642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45BE-BFE4-45E7-B054-47C1700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2DBD-862E-4737-96DA-440C1B7D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60B-D2EC-4508-B003-A3D90D0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740-41D2-4632-B7E9-6D6A104E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7AFD-53F3-485B-B3D8-2AC5394D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E81-2720-457E-AC67-2B30EA7B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EA75-6C25-40DB-BAC7-E26A3DD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BBAC-9CD6-49CC-AE52-A3DC1BD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C6E-590A-4B4A-9D4E-4D058183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6514-B5CC-4CAB-9E41-D2C0B5B7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EEC-B833-4313-9E6F-EE67A199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577E-CAFA-4E29-9B41-7CBF8212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46A4-5B1F-4A16-B2A2-F11E0815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7717-700B-45A5-AB7D-0829F480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75C6-A693-4E08-9DE6-DFE2915C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20523-03D9-4DB0-AFBB-8515116B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65D-C04B-4A74-A494-3E8FA95A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9BA5-E384-41A8-8E83-C2FA89D0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DE7D-6455-4E6B-9740-A6345B0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EA51-2964-4876-8677-AB09418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E79C-9BFB-4527-AE4F-7988CBF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CCCC-65BC-49D2-A3CF-A4E1CA79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0E10-0BC5-4053-B5D5-41AB0683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08AD-8931-4BA4-BFA9-9441A7E0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54A4-D33A-43E3-B626-D53A22D5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9C9C-23CF-47DB-82A3-598C097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A694-E61E-4EF3-A3D9-3374313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CC1-25C6-4C4A-A9DE-A37FC73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660E-2D50-4C56-BF0E-19B8C018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D8C4-96B4-4076-94D4-5A9844B3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630A-5E5B-450D-B0A1-9BB8B3E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CD3A-5968-4D71-85DE-0D341E8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4AAF-B0F9-41BB-9537-5F9A48E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0FAF-4346-4439-9502-A384A0F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D8ED-E57E-4E53-A8E0-7313AFD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27ED-3DE5-41CC-BF0D-DA7F305F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E6B0-046F-423C-B657-FBE4CD4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F2BA-14DE-4D0B-A735-907FF752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449-22C4-45C4-BE80-1DD07864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5CF1-AD19-4FCB-9BCC-6AD502AD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2FBF4-AA1F-4921-B84B-C104E15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1CB3-E481-4C68-9621-7E8A50B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1D36-C502-43D5-B3F8-8F504BBC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FA73-0242-4E80-A1A6-F9645B6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A6714-D1D1-431E-9DF6-B835ED9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3256-E7BB-4AE7-BEAE-66FE02B6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9950-A3B4-4639-A08F-E15AE1B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C781-A1CB-4C76-935A-E4025F4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3CDD-F47A-4142-8F0A-0EFD390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5AA-FF21-4EA5-B7BD-1D46ECF8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EC44-9D4F-4725-846B-9AF4387B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115E-FFF5-4915-A065-9188CC65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A42F5-CD3D-4204-8264-C153096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4A9A-303A-4CF9-B2AC-F313BC34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E309-052E-4C7F-9033-D66D04A3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61C8-99A1-4C7C-A0D6-2EA5F66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1DC1-ECD9-4815-913D-5EE993AA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A81EC-3B8F-4645-AD0E-E8C641F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07959-0680-47F9-A537-436064A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8922-153B-40CF-8FBB-60D346B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A66-C5A0-48DE-BB92-C177B118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51AE-67E7-4DF4-985E-2E1DB516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B65F-1D9C-473B-A1A5-36589634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DE088-40E4-46F0-B017-5D2EA43B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72E-32EC-48C7-B7FE-B51987A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7F2-1605-4150-BF7D-C966AFE1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557-B44E-49D5-BB65-7740AA56EA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336F-2634-4BFB-955B-530012BD24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EE5B-0A17-474A-B78C-CB00BE48AC2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3BE-D0BB-48F7-A4D2-32428AB197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C043-6734-4B26-9F5D-8C1C8A0AFF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9441-2C76-4D6F-8ECE-C9EA2DB6EF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512640" y="1365120"/>
            <a:ext cx="7882200" cy="1895760"/>
          </a:xfrm>
          <a:prstGeom prst="rect">
            <a:avLst/>
          </a:prstGeom>
          <a:ln w="0">
            <a:noFill/>
          </a:ln>
        </p:spPr>
      </p:pic>
      <p:sp>
        <p:nvSpPr>
          <p:cNvPr id="303" name="Subtitle 3"/>
          <p:cNvSpPr/>
          <p:nvPr/>
        </p:nvSpPr>
        <p:spPr>
          <a:xfrm>
            <a:off x="1371600" y="3962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133360" y="4952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Rizalina G. Gomez, Ph.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Arial Narrow"/>
              </a:rPr>
              <a:t>Other Terms for Educational / Instructional Med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ining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-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arning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lti-sensory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533520" y="609480"/>
          <a:ext cx="8229600" cy="281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oadcast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ss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um that disseminates info to a large number of recipients via tele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a envisioned and designed to reach a very large aud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3429000"/>
          <a:ext cx="8229600" cy="1884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o and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spapers, magazines, comics, radio,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57200" y="380880"/>
          <a:ext cx="8229600" cy="167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the sense of sigh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7200" y="3657600"/>
          <a:ext cx="8229600" cy="1393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-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 and se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57200" y="2057400"/>
          <a:ext cx="8229600" cy="129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radio, audio discs, recordings, language lab, etc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charts, pictures boards, diagrams, maps, models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57200" y="5029200"/>
          <a:ext cx="8229600" cy="1371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videotapes / discs, sound filmstrips, printed materials with recorded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457200" y="1371600"/>
          <a:ext cx="8229600" cy="38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rd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ft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ipment and related electronic and mechanical compon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grams, printouts, or instructional materials that go with the 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457200" y="38088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n-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ed word is used predominantly in transmitting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fo is transmitted predominantly through AV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57200" y="4267080"/>
          <a:ext cx="8229600" cy="1905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uide sheets, handouts, study guides, manuals, newsletters,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models, real objects, audio recordings/disc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8380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r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quino, G., Abellera, R. and Hidalgo, L. (1988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rinciples of teaching and 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ila: National Booksto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aro, C. (200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eaching educational technology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Manila: Rex Publish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try, C. (198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: A question of mea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rom Educational media and technology yearbook 1987. Littleton, CO. Libraries Unlimit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rabe, M. (2004).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 Integrating technology for meaningful lear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Y: Houghton Miffli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ones, B. (1999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A differentiating definition of instructional technology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vailable onli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Terms to be Cover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 an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ther terms for educational/instruction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roadcast and Mass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, Visual, and Audio-Visu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rdware and Softw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int and Non-Print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Education vs Instr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ess used to impart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terprise of supplying the conditions which ensure growth or adequacy of life irrespective of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imparting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providing activities, materials and guidance that facilitates learning in either formal or informal situ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57200" y="879480"/>
          <a:ext cx="8229600" cy="476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field as wide as education itself, its primary concern is the design, implementation, and evaluation of curriculum and learning experiences,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focused on the teaching-learning process rather than on other aspects of 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457200" y="1189080"/>
          <a:ext cx="8229600" cy="399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combination of instructional, learning, developmental, and managerial techn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hose aspects of educational technology that are concerned primarily with instruction as contrasted to design and operation of instit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457200" y="655560"/>
          <a:ext cx="8229600" cy="544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ny move toward an analysis of the curriculum into specific objectives and instructional design, a branch of educational theory and practice concerned primarily with the design and the use of message which controls learning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systematic way of designing, carrying out, and evaluating the total process of learning and teaching in terms of specific objectives, based on research in human learning and 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457200" y="274680"/>
          <a:ext cx="8229600" cy="645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ry concern is the design, implementation and evaluation of curriculum and learning experiences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echnology adapted and used for educational purp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lying scientific knowledge about human learning to the practical tasks of teaching and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means of connecting the teacher, the instructional experience &amp; learner in ways that enhance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 Narrow"/>
              </a:rPr>
              <a:t>Phases of Educational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886200" y="1828800"/>
            <a:ext cx="2438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733920" y="502920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1:51:16Z</dcterms:created>
  <dc:creator>User</dc:creator>
  <dc:description/>
  <dc:language>en-US</dc:language>
  <cp:lastModifiedBy>msu-iit</cp:lastModifiedBy>
  <dcterms:modified xsi:type="dcterms:W3CDTF">2011-06-28T02:56:15Z</dcterms:modified>
  <cp:revision>26</cp:revision>
  <dc:subject/>
  <dc:title>Educational Technology and its Related Terms</dc:title>
</cp:coreProperties>
</file>